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AB0-803B-4DBB-B3DB-3B3FE991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E91-86F9-472B-B926-7D372974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82EC8-37C2-4DB7-99EE-7BE4E366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C9119-BB76-443B-9A8A-5FB14C55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85FBB-E354-4C62-A1CB-3C022E73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6ABC8-DC4B-4D47-974B-F7DE31B7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EC28B-8AD6-4B5E-9B57-D55F4429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33969-61D7-42C6-9EBB-1E110A5D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989F7-D8E0-4477-865E-8818EE14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182EA-E439-48DF-8151-2EB01C77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6EBBA-FE86-41CB-88C7-34B8669D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18B05-68FF-4742-BC5C-A75B77D0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734-3C4B-440C-80C3-38B324E0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F9271-E0EC-47B5-AC8D-6623EC26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5D0B1-46CC-4286-B375-1E1B6E91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F906F-E843-4CC7-81C7-F1604321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C7578-9A79-4D1A-8990-6E12A483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73F66-5390-4243-9528-B5619499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1873B-14F0-46DB-8BFC-9AFAABCD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606E5-6B8F-4051-9D59-5C870ACE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AE11E-DEDD-463B-93DD-66956BCF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FDF04-B225-4EA2-A2B7-C433B216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FF951-1FA2-4AF7-9A65-222010BB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895B-DAF6-464B-BD0F-0C7AA726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6C801-7A22-4CDC-B9F6-96405B70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AC76E-E2DB-4052-9C31-11165F09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DCBD2-3F16-43F3-9B53-5B1650EC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4D4B4-0D5F-4AB1-A27C-B1A5AC26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98150-A89A-45FF-ACB5-DFC09F8E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DA0B7-64E1-44CD-A5A2-54370381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EB908-BCF9-49E5-8636-CB08A5A3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B2D12-D774-4114-802D-CE001E9B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E4423-454E-4394-9DB7-27C04570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3B3D4-31CC-4F0E-B726-AFB75D33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46DF-5F56-43FC-907B-6FC41264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4AC6B-9E02-486C-ADAD-F05C9E59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C6EDF-C35E-4AF4-B2B8-0478DBD7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A3229-909E-4AB7-B838-7064DAAD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57EC3-4381-41BD-BB30-F415CA55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97A21-E132-409D-A958-84A793E0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3E58B-FE19-4F18-A882-13E45030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FC05B-0C2F-4B89-B8B9-E2F8B404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95264-B589-469C-9CE5-FB1B0721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77091-B6B8-4BFB-9D53-23CD449D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FA4FA-CB59-4039-8370-2D5C0FEB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C7B3-D479-4F0F-9BE2-2E699585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FFEDC-8AB4-4ED3-8545-07E12413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64761-BBEE-470C-B86C-FAD574FE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6EBC6-C30C-47FB-8AEC-78F34A90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0FF50-0C23-45B2-8110-82F094D0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11237-4215-439A-92A4-82C625B9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4C8F9-00C8-4682-A4FC-B83F1608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C53BD-3F1A-4E6F-94EF-2CBFB248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5FFC57-6BD7-4D11-A142-98096CF7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32B57-1122-4D51-9E6A-96424E53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B66128-6C8B-405C-A1CC-119BA4A7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1E05-7649-4BEA-953C-C6284792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5C7BCE-C47D-4A65-BD4B-37CD5582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AB578-E6DE-4027-940A-2EBDA0DE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88C69-E93E-4802-B5B1-4CA95E80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305D8A-8588-444C-812E-4A07726A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A838F5-6CC0-4D0E-BE60-13603ECC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D3F9A-3889-4031-8671-F88458DC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31F20-4734-4559-925F-AE0F7046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1387BF-A5AB-46FF-A8A9-015CC40C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234D23-EC1F-4FB7-8621-2355379A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844205-010A-4F69-9894-A67665DC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A605-B1EA-48B8-A956-C7D91992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9C3496-77BF-4548-AC3F-D4CFB053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A44F88-C91D-422A-B498-7602289A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1A384B-B49D-4EA8-8B4F-D5E1DE91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C2334F-1826-43E2-BCD6-D14DD166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E3CA2D-ACAA-4E78-AF85-589EE975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B27E8E-0A3E-403B-82C4-27252705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CF627-49B9-428C-9CC7-DD34614F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D17A90-0CCE-4777-BBDF-D26C05FE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F7C83C-C758-4285-9EC9-3D5B6C68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4831A4-CDC7-4463-9DE1-626D145B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E8FE-8E89-461A-A2BA-58A4993C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6513BD-B54F-4ABD-841B-304F3B67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3529AC-79D9-49FA-94CD-2223BBE5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4DD36-674D-4577-BD58-68B5CFB5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2CFF91-4A4D-4ABE-B0CF-468F2679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66D255-BD10-4B46-AB0E-95A8327C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A7C7E4-CAC6-4080-8D26-A5737075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729F3-87F9-4A8A-95F0-A150B25D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4CA135-5057-45F8-B249-E1903F83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889534-C94C-4B53-AC10-3A619B14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54C740-8F7C-4ED2-8742-43B763A8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4EB4-20C4-4D4A-BF01-3B540CC0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18CAB8-D33C-4EFF-A2CB-99A6198C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E1660A-884C-42F7-9752-AE9339F7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F1F926-6F4F-4D45-AC79-ECAA0764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857679-75AA-4409-81C1-6D2CA6B1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14720C-A7DE-4B1A-A2E6-25AABB1E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EE0706-4DF4-4929-AFD9-67FD4293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249C2C-1732-4F5A-B60D-6BECA11C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9B247F-6171-41B5-B410-374F66D4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0C2DDF-8D81-45DC-BF4C-7748E630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AD73AB-E70D-47ED-A563-4EAAEA7C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7292-A129-4C61-A9E9-7CC0557E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97CC5D-A88D-4807-8E60-AB5C9C75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D65E2E-1E80-4BE1-8D0A-3098118F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30F0F2-DB33-4B1C-8CDA-847CB00D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F35024-B2B8-4E09-AAFF-D7358D70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46FFA9-FC5A-4B6D-BE92-8B20FC94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93C193-6245-4DE2-9789-D2E60E72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36D6C0-8DC6-49D9-80F7-6A592FDA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EB2F08-ABED-44CF-9097-425A6C49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03DA50-D8CA-4C6D-9FAA-507E489E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181331-AD6B-478D-BDA8-F04AC068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17A-6461-4FB6-9319-340F14BA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17F9-793A-4283-A6D1-CD846E09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0E6415-40DD-4452-8FCF-26DD6A87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54F1BA-1B3F-4C0E-AB15-16F7073B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B708E-9564-4FF1-80D4-A066C91E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6A8349-E0DB-4B9E-8613-BBFC14F0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9919C3-0B36-49BB-A3A5-8BBCD1D2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1B8F3C-7F3D-44C4-B9E7-EF510744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23D0EE-B318-455D-87FA-3A96FC96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647B62-8AF7-4402-9344-07115027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13BE23-2586-4559-B428-93302944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768254-9715-437A-B891-5490129D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BF3F-BCB5-4124-996D-6C44912F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88C8D9-9376-4243-8368-2E34EDC0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F57288-E9FA-4AC1-BBB7-DDDF8DFE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D4645E-A3D9-412C-8C6B-515DC58F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AC9F19-AC26-46A6-B950-7BA10703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B2FE53-5FF6-45F4-8B6D-F5D38ABA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ED3961-69B6-4077-8254-6364B157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249CE5-4061-4A7B-8B79-A96FFB19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235076-6B08-4A92-8628-C919CFF6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6173F9-00FF-40FA-A9CB-0E58DCAA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398A69-2D88-4E6C-A32D-92366D87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E126-8421-4861-9E21-72F72C94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481CAE-E59A-49EB-BEE7-91F1A131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729A90-8729-47FF-943F-55FCBF5D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BA613A-C359-45B3-9166-783DD69C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925045-740B-4383-8581-C1CD7BE7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4531D9-23D0-4FC7-8D23-232089F1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B87CFC-DDA0-4BE4-A2D4-5378A85B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A8EB75-C745-44A6-AA6E-13E1821D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F21828-E545-4796-A3C3-AF98DEDD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F21B4A-B2C3-4950-ACF6-F5213B9D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F2F419-26D1-485D-9E28-88BE0331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B912-EE54-4173-BDD9-83388449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8DF937-0938-47AE-A97A-43B7AC2C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9094BE-E47C-47B6-AE63-A50F55E9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F26CF7-F5E6-453D-A8F7-40FF6BF8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A0FB2C-D499-4CDF-B7EA-25CE4EC3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7ED027-3F58-4C83-93E0-B2B5BF1A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0AE2CA-0FDF-4E81-98E6-5D4720C3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831F6A-859C-49A8-9D90-FCBA9CA8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412AAE-A2C3-47D5-8E39-84E3D7BC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801FA8-14BA-48E1-B904-5D2EAF83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440A42-1762-41EA-83D8-930EC404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1D04-006A-4E12-B89D-9046D61E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789D1D-4243-47A3-AF5F-1626466B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81EFF7-22E1-40F9-956D-AED9AF94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18C162-A2A2-42D2-BB49-BD20975D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B1E9AA-6EA9-412F-B68C-7A2D7D9F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4D800C-0D99-4DF6-B5B1-CC78589D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F84AC8-87D9-487E-8F59-410D0027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084DE2-A35E-4907-ABC7-C56FF066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3B7608-8BFE-46C9-B975-C32FBF4F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E6D92C-0C14-4790-9945-562E8263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B250ED-48C0-4A27-ACB7-18408F4C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98C29-809A-4573-ACBB-1A6AE97D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E3AFDD-E07C-4B5F-A3DD-B80781AD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E64FFC-AB02-4537-8780-FC4A7CDE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D956D2-4AC0-415B-8A9F-C6842742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B054C6-F2E8-4AA9-AC17-7C5B1CD0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7DA1B5-96DB-4A3B-82FC-DAB388F0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6057A7-BE22-4426-9C2E-66D6357C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523CDD-9099-4BBE-9634-EFEC421C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8BCD00-04A0-4039-8991-092C6C02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26626F-BB2C-42A0-8F0F-AC3C904B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B119E4-2FB4-48DC-8C07-00579EA8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92645-3BF2-4BA4-9F88-94F8A8A4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360AF3-A245-4DEE-BE75-E7FBBC4A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22EF05-76E8-45D3-8B60-1E8BB476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84F812-E7D2-424F-91D0-301FF770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20C99D-2BAD-46D4-8789-5C003C01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E50B37-1A6A-4E9A-8FCB-2DFC0A2F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659636-9B8A-4FE2-8F47-C66F3E9D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919A7A-C98B-4673-A2E5-4303E6DF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331611-4359-4B1F-AFC6-2F418AAC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1129FC-92B5-4AC8-91C9-BC6705D9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3F886A-48ED-419A-9AB0-5E190F6F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D7A4E-E6C5-4714-BE64-890C6210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100F9C-59EC-4C4F-BAAB-61636F29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F397FF-2808-4D01-8C06-E3B8F568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FB8FEA-4F8D-4075-961F-6A2E003F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9FBEF4-82AB-469F-8CF3-23062F40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8499CE-F53C-4E3A-B53F-034A0D46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BA21A8-7A1D-4A22-A97D-A5923D0E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869269-DD06-49ED-89A0-CCBE4DA5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D4D337-9B06-4EAE-8607-F5D8A43D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C35A8A-1C0D-488F-83B6-DCD4473C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C920CA-CD93-4291-848A-5CEFC3CD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B873F-7160-45C2-8CD8-08E849A3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8DE3F6-AB32-4471-B37D-7B16573A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A864E3-0621-4BBA-85B7-273FA79C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7A8B48-85D9-4094-94F5-CBABD694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6BA283-B95B-44BD-BB08-93DDCA3C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0CB1CC-215A-40F5-B4B9-B67B7482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BD6F62-3199-4C1E-8ABA-AC0CE7E6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02ED8E-28FB-4588-B0A5-A3255B21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B65A73-5062-4A87-BE65-03FA7EFA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6EE194-5941-475F-867F-10CC4B5D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5D9E89-25A8-49A2-B4EB-15C6FFB8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849B3-B25E-40FA-854C-0CDC77ED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6E82E2-BABC-4875-B4CD-EDB6C389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BD1F74-8580-4CB0-9144-AA8C6661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CFCB8D-630B-4377-9092-84FE5056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834F81-8506-41C2-A043-53979B7E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19725A-541E-4BC6-96E8-FCE20563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A80BAC-C944-4409-B762-42965C19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31AB13-5ABB-4962-8757-750C0DDB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1C0964-18D9-4608-A29F-603A0832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8EE128-1F36-4FC1-8061-E2BFDD0B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DB41BB-5851-4AED-B2CF-0C743862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379-00AD-4E19-B9A8-16A4B21A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FB2EE-3345-456A-B29B-C8C75CE6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18F4EB-A226-41C7-9D4C-B00065FC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FE6FBD-C1A5-4993-838B-621E982A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B63CF2-F49B-4203-93E0-2F661C49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E79DD8-ACDB-42B4-8C21-990669D1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65934C-F104-4532-9C2D-CC5CD724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02B4BD-CF04-417C-85AF-60D36A7D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CA9EAD-1CD3-4A2A-8B2F-36CDB2C5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9CDCB9-8791-4179-9CDB-0EA7C816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27601A-AC28-4684-B492-26DB92A9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2C2196-B578-4BD9-9070-2334D691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7C0A2-EC71-4B98-BED0-DA61DC13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987F49-F624-4585-A443-2DA14232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BE15C9-E257-4379-99D4-FC98C057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AB07E5-6371-4CE8-85E6-4A8B8F11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9BB326-B045-4C6F-B9C3-C1DC2122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C65436-1C2D-4F1C-A0B8-5B9B3C7E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ED1001-673F-4392-9094-233C2511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C2CA2E-123F-4502-B6E2-8B95A025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F67790-60CB-45F2-9016-A192F667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BEB768-ABA6-42E6-8DC5-A6F49D2A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75177B-00E6-44B0-9AC9-7897FA89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D040F-9C65-44A7-9C19-10D2630A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D38A6D-6BDB-4C5B-9C56-179D6E6B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5C4FB3-315F-4946-809B-14328B82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433886-322A-4F84-B81F-FAA5821B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AF7350-0C4F-44B8-8BA5-C44079D1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6CD9DC-4182-4BAF-87A2-6EB4E88A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15699F-A1AF-4B0A-AE57-5E4B3819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9491B7-E120-4D79-849A-BE23FC0B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37FDF5-83EB-4133-B0E6-8182E652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3CB952-BC18-4306-B84A-710713EF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1F2D92-D349-4CB2-8C00-1CB3FA7B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141CC-04D8-451E-94E8-506ABB7D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30C4F6-2F76-4491-83EE-8B15265A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3765B7-0B88-4998-AABC-3D9168B6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5F4780-12CD-40FD-8E64-182D4172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34E050-89E3-4937-B1EF-1258ABE9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DCF70C-27AE-472E-BE78-4AA21B44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5C6ED4-7B0B-476C-BAB7-DDC4FF87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C3B8F8-E8ED-4158-AB9A-519BD0E2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2A6335-DBEA-43E9-9337-8AE88EB4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F97C50-71D3-4BB8-A3D7-07B18F0E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77E8C8-03EB-405A-8F82-42BECAA7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41ACA-EE4A-41B1-B9D4-48B37A52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2CC922-E8EE-4C5B-83BD-1C8EA294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789C1E-0D1F-4982-B433-6B109C16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00E065-518A-486B-8427-40227069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B6CBF1-2394-4A62-BFB2-B2D6D12C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FF4AAD7-82B3-4BCE-8FD3-4FED7830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B27759-D20F-46D8-B80F-FFA554A0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DD22DD-E9CE-4FA3-AEE8-BF86573F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1A1ED9-0F81-4FED-8E1B-1CA975AC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FDE8D0-52FE-47F3-8DD7-79886F3E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6A772D-D896-4FB2-9581-E35548FD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BFA91-D0ED-4379-9399-8C5DBA4D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2FEC81-F087-42AF-934F-ADB783B1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4B469B-287C-401F-A703-4DCF51A0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48A910-CB86-44B5-9F78-4B772F12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B5D33D-40B1-4798-8C45-777D4DCA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39EA7C-9657-4E98-B2E3-E469900D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A44801-0FE4-4EA0-A6B0-C98A769D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A5599B-0F68-4B7B-ADCA-695D670D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056912-F1FE-40B6-941B-9BFC7169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FFF5F32-BF87-4A35-92B2-B0309A68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96CAFF-C3E0-4901-9008-36516C54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EADE9-FEC5-40BB-BCAD-238DB642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5CB2D0-00D9-4CE6-A235-C3FA207E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A31E66-E29B-41FE-B196-AA3AB371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4E2508-FAE7-4ECA-AA3F-ADCDBA0F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4C4494-E81B-44A4-B569-6A6683C5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7856BF-B91A-4075-B00D-E75619A7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88A0F4-C5E9-43E0-B2C4-42D6A003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031FCA-663C-49EF-B452-AECFA686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784F70-37E2-476A-94E5-5891E8DE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E32D0F-14FE-44EF-A8BD-9CAF4628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0C7A83-2D36-4EF7-A904-893B84C9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D1884-9CC8-45AD-A418-A8C1019C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88C780-390D-43E3-B023-2EB1914B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E001D3-F063-41DB-BB9A-8E90681F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AD60F4-0C1F-4597-9E35-FBF76AF0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96BE2-F15E-4E83-B400-AA8EA551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61808-2087-4429-8BDB-50D21C14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9F4-BCE0-4704-8C2B-EB4BCEDB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F1312-3079-42DD-B8D2-5BD7746A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DD6F6-194B-42FB-B007-95C16D3C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02EB0-73D9-4B62-82A4-DD0A6853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1F0C5-797A-4871-832D-417E7CFE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CB14E-3068-4FC4-9554-957EC69D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4CB28-24E7-4E6A-8912-55E55AF1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74D79-9F54-46C0-BBBD-DA3FF47D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C3920-D682-4833-8B3A-4E8DB53C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0905D-4997-4324-B16E-FD7243F0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A7E92-73A4-48FF-B2C2-71044B38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28F7-445E-40CF-B9D6-B8619090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A9A32-541F-4AD0-A910-296AE348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86A3E-4F25-404A-A3E8-02AEAB91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155F8-4461-4D2B-8BFD-19ACE6A7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FB992-1B87-41D4-A89D-2FA37E2E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BC64A-5C43-4F84-87CA-7DA02D48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543ED-1C12-4E17-88EB-2CFAD96D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28479-4B41-4BC6-A7E2-EDA18549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8CA01-8AAC-41BF-99C3-2425152A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20166-538A-4CFA-AAA5-D62A4276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D72F8-49B9-4A12-8A96-A31A9D96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7380-5CF5-4FD6-8830-32FB3E6F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20DAD-C005-44C5-96AF-A3AF9ACF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1CEC6-69A5-4562-8DBD-4C64FF13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0C354-9AA0-49A1-9F2E-F9DBA8A2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ACEE6-7403-4D59-A508-F330CC62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07415-86F7-4F2B-8BF0-9B9D5808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3ED29-45EB-4AD2-9F83-2D7801E5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B5284-C445-4025-87E5-1074AD12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F6521-86BB-443D-B95B-42A5CC0C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14648-C0B9-4983-8778-F5313669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5761A-B91D-496D-8B9C-0A721262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3B96-242C-491B-8152-14A42FD0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C98E3-0AC0-4C80-B483-4600EEEA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6BC5C-4F62-4403-81E7-DF5EAD16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F1AC2-A223-4C65-B572-8E2A72A6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17097-7B22-4E19-890F-F83FC3FC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E8B80-D7CA-45C0-94F3-706F5ACE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A7E74-E901-4CCC-84DC-DF08EC02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70158-7D11-4562-9BDE-B327FBEA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68269-656C-4FB5-9FAC-B8011EE9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F5453-A4C4-4F64-9C3C-FCFF207F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3417F-14B7-4BBD-8C5C-091C792A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E992-9192-411C-8245-5EC51736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8DDD0-28F4-44E5-A4E8-88BA6BDB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4B11E-CF5A-46E7-95B0-E7138D9C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DABFC-9D13-4BC5-B0C7-354FA783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12CB4-342F-4B04-9D65-F46DC7FF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5E7FE-5928-483B-A415-420CF6B2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06412-3D53-4041-AFA5-4EE81355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D794B-5B2F-4B70-9F42-3A7F8B8B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E387D-7036-4650-BBC7-08EA5BA8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397ED-9036-4E2A-90B4-5FFC3596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32174-AE4F-4ED5-8BF9-88D1CA33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FA3-C41D-45AE-AB49-39BE3537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9DE7C-DFF7-47C4-8C8A-F6833809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EB972-6309-4BEB-892C-218C7148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BB85A-49BC-4EBA-98E9-EF793DA2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09A81-A736-4B02-B3B6-F2CE75D3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DB64C-22A4-4EEB-8285-AE5F1D08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02074-2613-4137-9E60-1B8934A1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2DB0F-FD9B-47B3-83F8-6B22CA0C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57596-848A-4A03-BCC3-92BB4B30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E5EA5-A854-40E6-9680-0CE886C9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CC8D5-1C8C-4285-9097-527538D1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331F-035C-49A4-A977-D5118BDF37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0558-3C8C-4A2F-9890-DCEF5B3CB3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DF5A-E705-445D-8C25-B0D78DE34C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059E-6D31-4C13-9432-07F1DE133A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1597-BCB6-41C1-ABEB-6F850E6334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A18D-278D-40AA-AA76-EED567FBC7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203F-5706-4978-9E91-F3B00F29DD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A42C-92F8-4E73-924C-E20AB4C50B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B5A2-C3D9-4806-8A24-F74D179010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7461-FB51-4F74-BD29-E5E02C53A2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92D8-67B9-4504-97D6-3AF5F5BC45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883E-813B-477B-9CC4-75393F97FF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0595-2A27-4215-A439-B62D5A91A5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2114-4874-4A4B-9FCE-1C8FD9B826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FD87-CC7E-4AEF-887B-323D97AE22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29E8-3F2F-4BB1-AA60-DE1E911BD8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5ABC-2181-4748-B8C8-E2BA27A801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90EA-B6C8-400B-8ABD-D3A4AA06C7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3238-3B1D-48D4-BD64-0982D937A1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EF6A-0A95-48C2-BF7E-65AA16F229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2D53-FB5C-4FE2-A1DE-84320E61F4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E353-1DE4-4743-8DD2-CC7BC7DBD7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3DAE-7494-4DF1-A0E8-2C50617C65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4DE5-9910-4FFC-B9BE-22FB61935A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572F-D553-4B90-A842-7A88D693B6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9C0D-3865-42D0-92EC-0ABDBED715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65C7-7E64-4ADA-A0F1-F7A96E7742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A7FB-3BC3-44C8-BB29-E2D8D99A42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1136-9F37-48B4-8548-77E4359A88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E535-A761-445D-9556-531AD51804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F5FF-A244-476E-8264-1FAE44E95B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3FA8-F82C-4FC6-9393-8609908DD5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B287-C95D-44D6-A4E4-49009210CD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3B86-BABE-4A38-8DE1-9EC256BCB0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A739-C2B5-43EB-82C2-EF223C8F17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5701-0987-4332-88E8-E546A9CD13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C1FC-A0E7-40E4-A9ED-44C3379903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4382-5C25-4F45-A2E9-E4E3DCC10F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3D22-F33D-4CDA-ADEE-F32E874242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A482-CA62-455D-B73E-9D7F67D693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7CE5-72AB-4200-8C3B-94D5544101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FA5F-6F16-4DF7-A04F-CEF90A7818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D685-FEFD-4E8C-86E5-04380455F8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6650-3CC0-4623-A352-2EA1AF506E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BB6C-60FA-43F4-B027-A9FBE6EA43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1163-5194-4F0C-A9B2-F2C8CAC66C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E6D3-974D-412A-8D82-96BCC8B117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D70F-9A14-48A3-B1E6-43CEBE8DFD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2DDE-709D-4E7F-B049-79DFE695BE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17AA-209D-4A90-9586-DF695F4C1E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2619360" y="2976480"/>
            <a:ext cx="39052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79873" descr=""/>
          <p:cNvPicPr/>
          <p:nvPr/>
        </p:nvPicPr>
        <p:blipFill>
          <a:blip r:embed="rId1"/>
          <a:stretch/>
        </p:blipFill>
        <p:spPr>
          <a:xfrm>
            <a:off x="504720" y="1542960"/>
            <a:ext cx="8134560" cy="3772080"/>
          </a:xfrm>
          <a:prstGeom prst="rect">
            <a:avLst/>
          </a:prstGeom>
          <a:ln w="0">
            <a:noFill/>
          </a:ln>
        </p:spPr>
      </p:pic>
      <p:sp>
        <p:nvSpPr>
          <p:cNvPr id="1470" name="矩形 79875"/>
          <p:cNvSpPr/>
          <p:nvPr/>
        </p:nvSpPr>
        <p:spPr>
          <a:xfrm>
            <a:off x="7812000" y="2708280"/>
            <a:ext cx="432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78849" descr=""/>
          <p:cNvPicPr/>
          <p:nvPr/>
        </p:nvPicPr>
        <p:blipFill>
          <a:blip r:embed="rId1"/>
          <a:stretch/>
        </p:blipFill>
        <p:spPr>
          <a:xfrm>
            <a:off x="538200" y="1228680"/>
            <a:ext cx="8067600" cy="4400640"/>
          </a:xfrm>
          <a:prstGeom prst="rect">
            <a:avLst/>
          </a:prstGeom>
          <a:ln w="0">
            <a:noFill/>
          </a:ln>
        </p:spPr>
      </p:pic>
      <p:sp>
        <p:nvSpPr>
          <p:cNvPr id="1472" name="矩形 78850"/>
          <p:cNvSpPr/>
          <p:nvPr/>
        </p:nvSpPr>
        <p:spPr>
          <a:xfrm>
            <a:off x="4211640" y="2421000"/>
            <a:ext cx="4316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77825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010360" cy="637920"/>
          </a:xfrm>
          <a:prstGeom prst="rect">
            <a:avLst/>
          </a:prstGeom>
          <a:ln w="0">
            <a:noFill/>
          </a:ln>
        </p:spPr>
      </p:pic>
      <p:pic>
        <p:nvPicPr>
          <p:cNvPr id="1474" name="图片 77826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7877160" cy="3876480"/>
          </a:xfrm>
          <a:prstGeom prst="rect">
            <a:avLst/>
          </a:prstGeom>
          <a:ln w="0">
            <a:noFill/>
          </a:ln>
        </p:spPr>
      </p:pic>
      <p:sp>
        <p:nvSpPr>
          <p:cNvPr id="1475" name="矩形 77827"/>
          <p:cNvSpPr/>
          <p:nvPr/>
        </p:nvSpPr>
        <p:spPr>
          <a:xfrm>
            <a:off x="3780000" y="2349360"/>
            <a:ext cx="431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76801" descr=""/>
          <p:cNvPicPr/>
          <p:nvPr/>
        </p:nvPicPr>
        <p:blipFill>
          <a:blip r:embed="rId1"/>
          <a:stretch/>
        </p:blipFill>
        <p:spPr>
          <a:xfrm>
            <a:off x="500040" y="1819440"/>
            <a:ext cx="8143920" cy="3219120"/>
          </a:xfrm>
          <a:prstGeom prst="rect">
            <a:avLst/>
          </a:prstGeom>
          <a:ln w="0">
            <a:noFill/>
          </a:ln>
        </p:spPr>
      </p:pic>
      <p:sp>
        <p:nvSpPr>
          <p:cNvPr id="1477" name="矩形 76802"/>
          <p:cNvSpPr/>
          <p:nvPr/>
        </p:nvSpPr>
        <p:spPr>
          <a:xfrm>
            <a:off x="7745400" y="1820880"/>
            <a:ext cx="7142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76803"/>
          <p:cNvSpPr/>
          <p:nvPr/>
        </p:nvSpPr>
        <p:spPr>
          <a:xfrm>
            <a:off x="1144440" y="2401920"/>
            <a:ext cx="4748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76804"/>
          <p:cNvSpPr/>
          <p:nvPr/>
        </p:nvSpPr>
        <p:spPr>
          <a:xfrm>
            <a:off x="6335640" y="3525840"/>
            <a:ext cx="8287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76805"/>
          <p:cNvSpPr/>
          <p:nvPr/>
        </p:nvSpPr>
        <p:spPr>
          <a:xfrm>
            <a:off x="5345280" y="4078440"/>
            <a:ext cx="5950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89089" descr=""/>
          <p:cNvPicPr/>
          <p:nvPr/>
        </p:nvPicPr>
        <p:blipFill>
          <a:blip r:embed="rId1"/>
          <a:stretch/>
        </p:blipFill>
        <p:spPr>
          <a:xfrm>
            <a:off x="523800" y="1247760"/>
            <a:ext cx="8096400" cy="4362480"/>
          </a:xfrm>
          <a:prstGeom prst="rect">
            <a:avLst/>
          </a:prstGeom>
          <a:ln w="0">
            <a:noFill/>
          </a:ln>
        </p:spPr>
      </p:pic>
      <p:sp>
        <p:nvSpPr>
          <p:cNvPr id="1482" name="矩形 89090"/>
          <p:cNvSpPr/>
          <p:nvPr/>
        </p:nvSpPr>
        <p:spPr>
          <a:xfrm>
            <a:off x="5087880" y="4078440"/>
            <a:ext cx="113976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89091"/>
          <p:cNvSpPr/>
          <p:nvPr/>
        </p:nvSpPr>
        <p:spPr>
          <a:xfrm>
            <a:off x="1792440" y="4649760"/>
            <a:ext cx="9079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图片 95233" descr=""/>
          <p:cNvPicPr/>
          <p:nvPr/>
        </p:nvPicPr>
        <p:blipFill>
          <a:blip r:embed="rId1"/>
          <a:stretch/>
        </p:blipFill>
        <p:spPr>
          <a:xfrm>
            <a:off x="566640" y="714240"/>
            <a:ext cx="80107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94209" descr=""/>
          <p:cNvPicPr/>
          <p:nvPr/>
        </p:nvPicPr>
        <p:blipFill>
          <a:blip r:embed="rId1"/>
          <a:stretch/>
        </p:blipFill>
        <p:spPr>
          <a:xfrm>
            <a:off x="809640" y="1490760"/>
            <a:ext cx="7524720" cy="3876480"/>
          </a:xfrm>
          <a:prstGeom prst="rect">
            <a:avLst/>
          </a:prstGeom>
          <a:ln w="0">
            <a:noFill/>
          </a:ln>
        </p:spPr>
      </p:pic>
      <p:sp>
        <p:nvSpPr>
          <p:cNvPr id="1486" name="矩形 94210"/>
          <p:cNvSpPr/>
          <p:nvPr/>
        </p:nvSpPr>
        <p:spPr>
          <a:xfrm>
            <a:off x="2192400" y="2708280"/>
            <a:ext cx="1442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94211"/>
          <p:cNvSpPr/>
          <p:nvPr/>
        </p:nvSpPr>
        <p:spPr>
          <a:xfrm>
            <a:off x="2801880" y="4946760"/>
            <a:ext cx="906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93185" descr=""/>
          <p:cNvPicPr/>
          <p:nvPr/>
        </p:nvPicPr>
        <p:blipFill>
          <a:blip r:embed="rId1"/>
          <a:stretch/>
        </p:blipFill>
        <p:spPr>
          <a:xfrm>
            <a:off x="771480" y="2209680"/>
            <a:ext cx="7601040" cy="2438640"/>
          </a:xfrm>
          <a:prstGeom prst="rect">
            <a:avLst/>
          </a:prstGeom>
          <a:ln w="0">
            <a:noFill/>
          </a:ln>
        </p:spPr>
      </p:pic>
      <p:sp>
        <p:nvSpPr>
          <p:cNvPr id="1489" name="矩形 93186"/>
          <p:cNvSpPr/>
          <p:nvPr/>
        </p:nvSpPr>
        <p:spPr>
          <a:xfrm>
            <a:off x="4440240" y="3933720"/>
            <a:ext cx="315612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5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3038400" cy="76212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88066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477280" cy="3495600"/>
          </a:xfrm>
          <a:prstGeom prst="rect">
            <a:avLst/>
          </a:prstGeom>
          <a:ln w="0">
            <a:noFill/>
          </a:ln>
        </p:spPr>
      </p:pic>
      <p:sp>
        <p:nvSpPr>
          <p:cNvPr id="1435" name="矩形 88067"/>
          <p:cNvSpPr/>
          <p:nvPr/>
        </p:nvSpPr>
        <p:spPr>
          <a:xfrm>
            <a:off x="3348000" y="2276640"/>
            <a:ext cx="10908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88068"/>
          <p:cNvSpPr/>
          <p:nvPr/>
        </p:nvSpPr>
        <p:spPr>
          <a:xfrm>
            <a:off x="8386920" y="2266920"/>
            <a:ext cx="361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88069"/>
          <p:cNvSpPr/>
          <p:nvPr/>
        </p:nvSpPr>
        <p:spPr>
          <a:xfrm>
            <a:off x="719280" y="2666880"/>
            <a:ext cx="361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88070"/>
          <p:cNvSpPr/>
          <p:nvPr/>
        </p:nvSpPr>
        <p:spPr>
          <a:xfrm>
            <a:off x="3805200" y="2666880"/>
            <a:ext cx="362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88071"/>
          <p:cNvSpPr/>
          <p:nvPr/>
        </p:nvSpPr>
        <p:spPr>
          <a:xfrm>
            <a:off x="3786120" y="3076560"/>
            <a:ext cx="362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88072"/>
          <p:cNvSpPr/>
          <p:nvPr/>
        </p:nvSpPr>
        <p:spPr>
          <a:xfrm>
            <a:off x="4700520" y="3057480"/>
            <a:ext cx="362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88073"/>
          <p:cNvSpPr/>
          <p:nvPr/>
        </p:nvSpPr>
        <p:spPr>
          <a:xfrm>
            <a:off x="5567400" y="3048120"/>
            <a:ext cx="3618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88074"/>
          <p:cNvSpPr/>
          <p:nvPr/>
        </p:nvSpPr>
        <p:spPr>
          <a:xfrm>
            <a:off x="7615080" y="3848040"/>
            <a:ext cx="917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88075"/>
          <p:cNvSpPr/>
          <p:nvPr/>
        </p:nvSpPr>
        <p:spPr>
          <a:xfrm>
            <a:off x="5435640" y="4240080"/>
            <a:ext cx="587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88076"/>
          <p:cNvSpPr/>
          <p:nvPr/>
        </p:nvSpPr>
        <p:spPr>
          <a:xfrm>
            <a:off x="5691240" y="4648320"/>
            <a:ext cx="825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88077"/>
          <p:cNvSpPr/>
          <p:nvPr/>
        </p:nvSpPr>
        <p:spPr>
          <a:xfrm>
            <a:off x="3851280" y="5032440"/>
            <a:ext cx="1008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88078"/>
          <p:cNvSpPr/>
          <p:nvPr/>
        </p:nvSpPr>
        <p:spPr>
          <a:xfrm>
            <a:off x="5508720" y="5032440"/>
            <a:ext cx="1836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87041" descr=""/>
          <p:cNvPicPr/>
          <p:nvPr/>
        </p:nvPicPr>
        <p:blipFill>
          <a:blip r:embed="rId1"/>
          <a:stretch/>
        </p:blipFill>
        <p:spPr>
          <a:xfrm>
            <a:off x="333360" y="1457280"/>
            <a:ext cx="8477280" cy="3943440"/>
          </a:xfrm>
          <a:prstGeom prst="rect">
            <a:avLst/>
          </a:prstGeom>
          <a:ln w="0">
            <a:noFill/>
          </a:ln>
        </p:spPr>
      </p:pic>
      <p:sp>
        <p:nvSpPr>
          <p:cNvPr id="1448" name="矩形 87043"/>
          <p:cNvSpPr/>
          <p:nvPr/>
        </p:nvSpPr>
        <p:spPr>
          <a:xfrm>
            <a:off x="3232080" y="3432240"/>
            <a:ext cx="692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87044"/>
          <p:cNvSpPr/>
          <p:nvPr/>
        </p:nvSpPr>
        <p:spPr>
          <a:xfrm>
            <a:off x="1660680" y="3832200"/>
            <a:ext cx="463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87045"/>
          <p:cNvSpPr/>
          <p:nvPr/>
        </p:nvSpPr>
        <p:spPr>
          <a:xfrm>
            <a:off x="3336840" y="4622760"/>
            <a:ext cx="463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87046"/>
          <p:cNvSpPr/>
          <p:nvPr/>
        </p:nvSpPr>
        <p:spPr>
          <a:xfrm>
            <a:off x="6708600" y="4594320"/>
            <a:ext cx="463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87047"/>
          <p:cNvSpPr/>
          <p:nvPr/>
        </p:nvSpPr>
        <p:spPr>
          <a:xfrm>
            <a:off x="1479600" y="5013360"/>
            <a:ext cx="463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86017" descr=""/>
          <p:cNvPicPr/>
          <p:nvPr/>
        </p:nvPicPr>
        <p:blipFill>
          <a:blip r:embed="rId1"/>
          <a:stretch/>
        </p:blipFill>
        <p:spPr>
          <a:xfrm>
            <a:off x="338040" y="2033640"/>
            <a:ext cx="8467920" cy="2790720"/>
          </a:xfrm>
          <a:prstGeom prst="rect">
            <a:avLst/>
          </a:prstGeom>
          <a:ln w="0">
            <a:noFill/>
          </a:ln>
        </p:spPr>
      </p:pic>
      <p:sp>
        <p:nvSpPr>
          <p:cNvPr id="1454" name="矩形 86018"/>
          <p:cNvSpPr/>
          <p:nvPr/>
        </p:nvSpPr>
        <p:spPr>
          <a:xfrm>
            <a:off x="324000" y="4724280"/>
            <a:ext cx="1368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86019"/>
          <p:cNvSpPr/>
          <p:nvPr/>
        </p:nvSpPr>
        <p:spPr>
          <a:xfrm>
            <a:off x="8032680" y="2041560"/>
            <a:ext cx="432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86020"/>
          <p:cNvSpPr/>
          <p:nvPr/>
        </p:nvSpPr>
        <p:spPr>
          <a:xfrm>
            <a:off x="1822320" y="3984480"/>
            <a:ext cx="432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86021"/>
          <p:cNvSpPr/>
          <p:nvPr/>
        </p:nvSpPr>
        <p:spPr>
          <a:xfrm>
            <a:off x="2411280" y="3986280"/>
            <a:ext cx="432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86022"/>
          <p:cNvSpPr/>
          <p:nvPr/>
        </p:nvSpPr>
        <p:spPr>
          <a:xfrm>
            <a:off x="5594400" y="4365720"/>
            <a:ext cx="633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84993" descr=""/>
          <p:cNvPicPr/>
          <p:nvPr/>
        </p:nvPicPr>
        <p:blipFill>
          <a:blip r:embed="rId1"/>
          <a:stretch/>
        </p:blipFill>
        <p:spPr>
          <a:xfrm>
            <a:off x="333360" y="1042920"/>
            <a:ext cx="8477280" cy="4772160"/>
          </a:xfrm>
          <a:prstGeom prst="rect">
            <a:avLst/>
          </a:prstGeom>
          <a:ln w="0">
            <a:noFill/>
          </a:ln>
        </p:spPr>
      </p:pic>
      <p:sp>
        <p:nvSpPr>
          <p:cNvPr id="1460" name="矩形 84994"/>
          <p:cNvSpPr/>
          <p:nvPr/>
        </p:nvSpPr>
        <p:spPr>
          <a:xfrm>
            <a:off x="8078760" y="1490760"/>
            <a:ext cx="432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84995"/>
          <p:cNvSpPr/>
          <p:nvPr/>
        </p:nvSpPr>
        <p:spPr>
          <a:xfrm>
            <a:off x="8069400" y="3405240"/>
            <a:ext cx="431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83969" descr=""/>
          <p:cNvPicPr/>
          <p:nvPr/>
        </p:nvPicPr>
        <p:blipFill>
          <a:blip r:embed="rId1"/>
          <a:stretch/>
        </p:blipFill>
        <p:spPr>
          <a:xfrm>
            <a:off x="485640" y="1195560"/>
            <a:ext cx="8172720" cy="4466880"/>
          </a:xfrm>
          <a:prstGeom prst="rect">
            <a:avLst/>
          </a:prstGeom>
          <a:ln w="0">
            <a:noFill/>
          </a:ln>
        </p:spPr>
      </p:pic>
      <p:sp>
        <p:nvSpPr>
          <p:cNvPr id="1463" name="矩形 83970"/>
          <p:cNvSpPr/>
          <p:nvPr/>
        </p:nvSpPr>
        <p:spPr>
          <a:xfrm>
            <a:off x="7821720" y="4091040"/>
            <a:ext cx="431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82946" descr=""/>
          <p:cNvPicPr/>
          <p:nvPr/>
        </p:nvPicPr>
        <p:blipFill>
          <a:blip r:embed="rId1"/>
          <a:stretch/>
        </p:blipFill>
        <p:spPr>
          <a:xfrm>
            <a:off x="519120" y="2052720"/>
            <a:ext cx="8105760" cy="2752560"/>
          </a:xfrm>
          <a:prstGeom prst="rect">
            <a:avLst/>
          </a:prstGeom>
          <a:ln w="0">
            <a:noFill/>
          </a:ln>
        </p:spPr>
      </p:pic>
      <p:sp>
        <p:nvSpPr>
          <p:cNvPr id="1465" name="矩形 82947"/>
          <p:cNvSpPr/>
          <p:nvPr/>
        </p:nvSpPr>
        <p:spPr>
          <a:xfrm>
            <a:off x="7850160" y="4405320"/>
            <a:ext cx="432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81921" descr=""/>
          <p:cNvPicPr/>
          <p:nvPr/>
        </p:nvPicPr>
        <p:blipFill>
          <a:blip r:embed="rId1"/>
          <a:stretch/>
        </p:blipFill>
        <p:spPr>
          <a:xfrm>
            <a:off x="1176480" y="1380960"/>
            <a:ext cx="679104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80897" descr=""/>
          <p:cNvPicPr/>
          <p:nvPr/>
        </p:nvPicPr>
        <p:blipFill>
          <a:blip r:embed="rId1"/>
          <a:stretch/>
        </p:blipFill>
        <p:spPr>
          <a:xfrm>
            <a:off x="514440" y="1814400"/>
            <a:ext cx="8115120" cy="3229200"/>
          </a:xfrm>
          <a:prstGeom prst="rect">
            <a:avLst/>
          </a:prstGeom>
          <a:ln w="0">
            <a:noFill/>
          </a:ln>
        </p:spPr>
      </p:pic>
      <p:sp>
        <p:nvSpPr>
          <p:cNvPr id="1468" name="矩形 80898"/>
          <p:cNvSpPr/>
          <p:nvPr/>
        </p:nvSpPr>
        <p:spPr>
          <a:xfrm>
            <a:off x="7812000" y="2421000"/>
            <a:ext cx="432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44:54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